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895-B138-43B4-822D-DAFCD366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957-937E-43A8-950D-C2913556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437-9940-4976-A5AC-527EA53F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104-3705-4F10-8DC6-FE06196B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10C-F6CA-414B-85BD-F9E2EBB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D23-D8E3-4EF0-AC8B-D8883400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CF4-D55D-4054-AA0E-C202903F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D758-7D46-4884-BCA9-365CBA91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B3E-FBD5-445F-8B33-C2B852D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773-097D-4028-90B5-5BCF201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DC7-44EC-4CAF-9201-50F8191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229-26BE-4BF8-B385-446BF7C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813E-6BF7-4B0E-81C9-56BA2B641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44880" y="1116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440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FIFE  ASSOC.                     DUNFERMLINE  ASSOC.                     ABBEYVIEW                                     ABBEYVIEW                                   ABBEYVIEW                                ABBEYVIEW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OUR                               ABERDOUR  100TH                           BRITISH  ALCAN                 BEVERIDGE  PARK  PUBLIC               BEVERIDGE  PARK          BEVERIDGE  PAR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WHILL                                          BOWHILL                                          BOWHILL                                     BOWHILL  75TH                    BOWHILL  MILLENNIUM                         BROAD  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0708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AD  STREET                       BROAD  STREET  10TH                            BURNTISLAND                             BURNTISLAND  100TH                       CHARLESTOWN                       CHARLESTOW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4520" y="3333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0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073240" y="40464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048520" y="260280"/>
            <a:ext cx="122580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1800" y="213372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2133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1989000"/>
            <a:ext cx="8780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537240" y="1989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7977240" y="2060640"/>
            <a:ext cx="124308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560520" y="371628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07324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681960" y="3716280"/>
            <a:ext cx="93312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265960" y="371628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516640"/>
            <a:ext cx="96984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44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5168880" y="537372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537372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8121600" y="4941720"/>
            <a:ext cx="1298520" cy="163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513240" y="404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168880" y="3716280"/>
            <a:ext cx="1122480" cy="104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3657600" y="3645000"/>
            <a:ext cx="1001880" cy="115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024520" y="2060640"/>
            <a:ext cx="11556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8:01:46Z</dcterms:created>
  <dc:creator>JOHN YOUNG</dc:creator>
  <dc:description/>
  <dc:language>en-US</dc:language>
  <cp:lastModifiedBy>JY</cp:lastModifiedBy>
  <cp:lastPrinted>2000-08-08T16:50:42Z</cp:lastPrinted>
  <dcterms:modified xsi:type="dcterms:W3CDTF">2005-12-12T11:00:31Z</dcterms:modified>
  <cp:revision>28</cp:revision>
  <dc:subject/>
  <dc:title>No Slide Title</dc:title>
</cp:coreProperties>
</file>